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E59B-93C6-4057-9AAD-A575DF73B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149400" y="4343040"/>
            <a:ext cx="6386400" cy="4599000"/>
          </a:xfrm>
          <a:prstGeom prst="rect">
            <a:avLst/>
          </a:prstGeom>
          <a:noFill/>
          <a:ln w="0">
            <a:noFill/>
          </a:ln>
        </p:spPr>
        <p:txBody>
          <a:bodyPr lIns="90000" rIns="900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000000"/>
                </a:solidFill>
                <a:latin typeface="Times New Roman"/>
                <a:ea typeface="Times New Roman"/>
              </a:rPr>
              <a:t>[Jacque]</a:t>
            </a:r>
            <a:endParaRPr b="0" lang="en-US" sz="4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organized these assets into four developmental domains: physical, intellectual, psychological and emotional, and social.</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here are key indicators associated with each of these developmental domains.  These are outlined in more detail in the table on pages 74 and 75.  </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Times New Roman"/>
                <a:ea typeface="Times New Roman"/>
              </a:rPr>
              <a:t> </a:t>
            </a: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Intellectual development, for example, involves such things as good decision-making skills and reasoning skills.  Psychological and emotional development involves good conflict resolution skills, culturally sensitive values, and strong moral character.  (could point out more examples here).</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concluded that while individuals do not necessarily need this </a:t>
            </a:r>
            <a:r>
              <a:rPr b="1" lang="en-US" sz="400" spc="-1" strike="noStrike" u="sng">
                <a:solidFill>
                  <a:srgbClr val="000000"/>
                </a:solidFill>
                <a:uFillTx/>
                <a:latin typeface="Times New Roman"/>
                <a:ea typeface="Times New Roman"/>
              </a:rPr>
              <a:t>entire</a:t>
            </a:r>
            <a:r>
              <a:rPr b="0" lang="en-US" sz="400" spc="-1" strike="noStrike">
                <a:solidFill>
                  <a:srgbClr val="000000"/>
                </a:solidFill>
                <a:latin typeface="Times New Roman"/>
                <a:ea typeface="Times New Roman"/>
              </a:rPr>
              <a:t> range of assets to thrive, having more assets is better than having a few.  Most importantly, however, continued exposure to positive experiences, settings, and people, as well as abundant opportunities to gain and refine life skills, supports young people in the acquisition and growth of these assets.</a:t>
            </a: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520560" y="4319640"/>
            <a:ext cx="5570640" cy="4114800"/>
          </a:xfrm>
          <a:prstGeom prst="rect">
            <a:avLst/>
          </a:prstGeom>
          <a:noFill/>
          <a:ln w="0">
            <a:noFill/>
          </a:ln>
        </p:spPr>
        <p:txBody>
          <a:bodyPr lIns="90000" rIns="90000" tIns="45000" bIns="450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Jacque]</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hese features became a useful framework for examining community programs for youth.  There are more detailed descriptions of each of these features in the table on pages 90 and 91 in the repor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a program setting, appropriate structure, for example, could mean incorporating clear and consistent rules and expectations and age-appropriate activities.  Supporting efficacy and mattering could mean making sure young people have opportunities to take leadership roles and participate in program decision-making.  (could point out more examples here)</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532EB-F160-4FB7-A0A0-347F8F214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8240-47B1-4FD4-9FD5-F8A01F8D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38C5-9F44-491C-8278-6D96F5688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546D5-4F3D-4FC5-8CDC-F915D514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F9946-7E4C-4568-9B45-390F897CA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785D-A83C-4B72-933C-7DBB6087C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785C-9484-4009-A9F1-D4EF07F8B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68C1-7803-496D-90BB-C8E60165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C1E5F-9324-4D27-8060-987187528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7B168-195E-4AB1-B9D9-80BB402BC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753A-C197-46F9-BA72-3AF7DF8B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50C79-52E3-4FB8-801F-B406974A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790D-3CC8-4BDE-BE1A-652189478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1357-CFC6-4032-92E1-351A93706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ED932-06D6-4F4A-AC37-7415770D1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9737C-4800-4B36-A3DB-A63B73F65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DD2C9-65F4-4893-930D-674082141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94DBE-56DF-4E5C-8FD2-E1ED5BDE4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AFD3-80CE-4B6D-916E-C173B956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08A3-FA16-44D1-9353-FCC3895B8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474E-03C7-46D2-BD85-D418751F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669F-1524-4613-B850-5ACC44A1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C54E-8677-48DB-8318-D0B6A67B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4FD7-6091-48CA-BC53-73920D818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1964-6B1B-4A67-9F34-B603221EA97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3FAF-2995-443C-97E6-018B27FF0C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800"/>
            <a:ext cx="772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 Between Education &amp; Youth Developme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2895120"/>
            <a:ext cx="6400800" cy="2762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lbrey McLaughlin</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ne 24, 2002</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orum of the Coalition for Community School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 studied diverse youth organizations</a:t>
            </a:r>
            <a:endParaRPr b="0" lang="en-US" sz="40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 youth organizations in 34 different communities-- urban, rural, mid-siz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affiliates, grass roots, public agenc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rts, arts, club programs, community serv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560"/>
            <a:ext cx="831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youth achieved in community organizations</a:t>
            </a: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recognition &amp; plans for further educ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fidence, efficacy and optimism-- Life skill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responsibility and connection to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benefits sustained?</a:t>
            </a:r>
            <a:endParaRPr b="0" lang="en-US" sz="4000" spc="-1" strike="noStrike">
              <a:solidFill>
                <a:srgbClr val="000000"/>
              </a:solidFill>
              <a:latin typeface="Arial Black"/>
            </a:endParaRPr>
          </a:p>
        </p:txBody>
      </p:sp>
      <p:sp>
        <p:nvSpPr>
          <p:cNvPr id="116" name="PlaceHolder 2"/>
          <p:cNvSpPr>
            <a:spLocks noGrp="1"/>
          </p:cNvSpPr>
          <p:nvPr>
            <p:ph/>
          </p:nvPr>
        </p:nvSpPr>
        <p:spPr>
          <a:xfrm>
            <a:off x="685800" y="3124080"/>
            <a:ext cx="7772400" cy="32004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gotten some kind of post-high school training</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steady job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engaged parent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ctive members of their communities</a:t>
            </a:r>
            <a:endParaRPr b="0" lang="en-US" sz="3200" spc="-1" strike="noStrike">
              <a:solidFill>
                <a:srgbClr val="000000"/>
              </a:solidFill>
              <a:latin typeface="Tahoma"/>
            </a:endParaRPr>
          </a:p>
        </p:txBody>
      </p:sp>
      <p:sp>
        <p:nvSpPr>
          <p:cNvPr id="117" name=""/>
          <p:cNvSpPr/>
          <p:nvPr/>
        </p:nvSpPr>
        <p:spPr>
          <a:xfrm>
            <a:off x="429840" y="2076480"/>
            <a:ext cx="8378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arly all of the 60 youth we have follow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dec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imensions of an Intentional Learning Environment</a:t>
            </a:r>
            <a:endParaRPr b="0" lang="en-US" sz="3600" spc="-1" strike="noStrike">
              <a:solidFill>
                <a:srgbClr val="000000"/>
              </a:solidFill>
              <a:latin typeface="Arial Black"/>
            </a:endParaRPr>
          </a:p>
        </p:txBody>
      </p:sp>
      <p:sp>
        <p:nvSpPr>
          <p:cNvPr id="119" name=""/>
          <p:cNvSpPr/>
          <p:nvPr/>
        </p:nvSpPr>
        <p:spPr>
          <a:xfrm>
            <a:off x="609480" y="1905120"/>
            <a:ext cx="7772400" cy="4343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514600" y="6324480"/>
            <a:ext cx="548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nsford, Brown &amp; Cocking, 1999</a:t>
            </a:r>
            <a:endParaRPr b="0" lang="en-US" sz="1800" spc="-1" strike="noStrike">
              <a:solidFill>
                <a:srgbClr val="000000"/>
              </a:solidFill>
              <a:latin typeface="Times New Roman"/>
            </a:endParaRPr>
          </a:p>
        </p:txBody>
      </p:sp>
      <p:sp>
        <p:nvSpPr>
          <p:cNvPr id="121" name=""/>
          <p:cNvSpPr/>
          <p:nvPr/>
        </p:nvSpPr>
        <p:spPr>
          <a:xfrm>
            <a:off x="4800600" y="3200400"/>
            <a:ext cx="2741760" cy="2787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2" name=""/>
          <p:cNvSpPr/>
          <p:nvPr/>
        </p:nvSpPr>
        <p:spPr>
          <a:xfrm>
            <a:off x="1295280" y="3352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3" name=""/>
          <p:cNvSpPr/>
          <p:nvPr/>
        </p:nvSpPr>
        <p:spPr>
          <a:xfrm>
            <a:off x="2971800" y="2209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4" name=""/>
          <p:cNvSpPr/>
          <p:nvPr/>
        </p:nvSpPr>
        <p:spPr>
          <a:xfrm>
            <a:off x="91584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es can bring..</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lear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teach</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ve youth development across all personal asset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d capability of teachers both those in and those out of school</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will to invest in opportunities for youth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erials for bridging learning environments in &amp; out of school...</a:t>
            </a:r>
            <a:endParaRPr b="0" lang="en-US" sz="32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ces and times for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nts of learning and teach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 methods and materials of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ors across contex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 of performance &amp;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will it take to build strong bridge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rming school/community relations &amp; intentional connection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ng of a coherent system &amp; voice among community organizations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sting in community supports for youth development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youth as vehicle for chang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f a community-level accountability system &amp; compelling vision of community goals for youth</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rant for bridges:  What is the rationale?  The eviden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materials and strategies:  What resources are needed? Availab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es to constructing bridges: What will it 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s the warrant?</a:t>
            </a:r>
            <a:endParaRPr b="0" lang="en-US" sz="4000" spc="-1" strike="noStrike">
              <a:solidFill>
                <a:srgbClr val="000000"/>
              </a:solidFill>
              <a:latin typeface="Arial Black"/>
            </a:endParaRPr>
          </a:p>
        </p:txBody>
      </p:sp>
      <p:sp>
        <p:nvSpPr>
          <p:cNvPr id="9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25% of youth at risk of not achieving productive adulthoo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s say they “can’t teach these kid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on personal assets that support positive youth develop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on contexts that support personal asse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36360"/>
          <a:ext cx="9144000" cy="6821640"/>
        </p:xfrm>
        <a:graphic>
          <a:graphicData uri="http://schemas.openxmlformats.org/presentationml/2006/ole">
            <p:oleObj progId="PowerPoint.Show.12" r:id="rId1" spid="">
              <p:embed/>
              <p:pic>
                <p:nvPicPr>
                  <p:cNvPr id="98" name="" descr=""/>
                  <p:cNvPicPr/>
                  <p:nvPr/>
                </p:nvPicPr>
                <p:blipFill>
                  <a:blip r:embed="rId2"/>
                  <a:stretch/>
                </p:blipFill>
                <p:spPr>
                  <a:xfrm>
                    <a:off x="0" y="36360"/>
                    <a:ext cx="9144000" cy="682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mp; Social Assets That Facilitate Positive Youth Development</a:t>
            </a:r>
            <a:endParaRPr b="0" lang="en-US" sz="2800" spc="-1" strike="noStrike">
              <a:solidFill>
                <a:srgbClr val="000000"/>
              </a:solidFill>
              <a:latin typeface="Arial Black"/>
            </a:endParaRPr>
          </a:p>
        </p:txBody>
      </p:sp>
      <p:sp>
        <p:nvSpPr>
          <p:cNvPr id="10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hysic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health habits &amp; risk management skills</a:t>
            </a:r>
            <a:r>
              <a:rPr b="0" lang="en-US" sz="2000" spc="-1" strike="noStrike">
                <a:solidFill>
                  <a:srgbClr val="000000"/>
                </a:solidFill>
                <a:latin typeface="Tahoma"/>
                <a:ea typeface="Arial"/>
              </a:rPr>
              <a:t>	</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Intellectu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Knowledge of essential vocational and life skills; school success; thinking, reasoning and decisionmaking skill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sychological and emotion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mental health, positive self-regard &amp; social identity, coping skills, ‘planfulness,’ personal autonomy, prosocial values</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oci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nectedness, attachment to conventional institutions,civic engagemen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About Personal and Social Assets</a:t>
            </a:r>
            <a:endParaRPr b="0" lang="en-US" sz="4000" spc="-1" strike="noStrike">
              <a:solidFill>
                <a:srgbClr val="000000"/>
              </a:solidFill>
              <a:latin typeface="Arial Black"/>
            </a:endParaRPr>
          </a:p>
        </p:txBody>
      </p:sp>
      <p:sp>
        <p:nvSpPr>
          <p:cNvPr id="102" name="PlaceHolder 2"/>
          <p:cNvSpPr>
            <a:spLocks noGrp="1"/>
          </p:cNvSpPr>
          <p:nvPr>
            <p:ph/>
          </p:nvPr>
        </p:nvSpPr>
        <p:spPr>
          <a:xfrm>
            <a:off x="456840" y="1676520"/>
            <a:ext cx="8178840" cy="50292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do not necessarily need the entire </a:t>
            </a:r>
            <a:r>
              <a:rPr b="0" i="1" lang="en-US" sz="3200" spc="-1" strike="noStrike">
                <a:solidFill>
                  <a:srgbClr val="000000"/>
                </a:solidFill>
                <a:latin typeface="Tahoma"/>
              </a:rPr>
              <a:t>range</a:t>
            </a:r>
            <a:r>
              <a:rPr b="0" lang="en-US" sz="3200" spc="-1" strike="noStrike">
                <a:solidFill>
                  <a:srgbClr val="000000"/>
                </a:solidFill>
                <a:latin typeface="Tahoma"/>
              </a:rPr>
              <a:t> of assets to thrive;but all youth need assets in all four domain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youth need a variety of experiences to develop their full potential; more than school reform matters to school succes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reformers and others must adopt an expanded conception of “learning” &amp; “teaching”-- beyond academi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gram &amp; Context Features That Influence Asset Development</a:t>
            </a:r>
            <a:endParaRPr b="0" lang="en-US" sz="3200" spc="-1" strike="noStrike">
              <a:solidFill>
                <a:srgbClr val="000000"/>
              </a:solidFill>
              <a:latin typeface="Arial Black"/>
            </a:endParaRPr>
          </a:p>
        </p:txBody>
      </p:sp>
      <p:sp>
        <p:nvSpPr>
          <p:cNvPr id="104" name="PlaceHolder 2"/>
          <p:cNvSpPr>
            <a:spLocks noGrp="1"/>
          </p:cNvSpPr>
          <p:nvPr>
            <p:ph/>
          </p:nvPr>
        </p:nvSpPr>
        <p:spPr>
          <a:xfrm>
            <a:off x="456840" y="2133720"/>
            <a:ext cx="380988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hysical and psychological safety</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ropriate structur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ive relationship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to belo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itive social nor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 for efficacy and matter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for skill buil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gration of family, school, and community effor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s about program &amp; context features</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600200"/>
            <a:ext cx="8178840" cy="457200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t do it alone; community resources can make particular and important contribution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ed exposure to positive experiences &amp; opportunities supports acquisition and growth of these asset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th thrive when messages and supports from school, family and community are coherent and mutually reinforcing</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ty Counts</a:t>
            </a:r>
            <a:endParaRPr b="0" lang="en-US" sz="4000" spc="-1" strike="noStrike">
              <a:solidFill>
                <a:srgbClr val="000000"/>
              </a:solidFill>
              <a:latin typeface="Arial Black"/>
            </a:endParaRPr>
          </a:p>
        </p:txBody>
      </p:sp>
      <p:sp>
        <p:nvSpPr>
          <p:cNvPr id="109" name="PlaceHolder 2"/>
          <p:cNvSpPr>
            <a:spLocks noGrp="1"/>
          </p:cNvSpPr>
          <p:nvPr>
            <p:ph type="subTitle"/>
          </p:nvPr>
        </p:nvSpPr>
        <p:spPr>
          <a:xfrm>
            <a:off x="2133720" y="3886200"/>
            <a:ext cx="6400800" cy="146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youth organizations  matter for youth development</a:t>
            </a:r>
            <a:endParaRPr b="0" lang="en-US" sz="3200" spc="-1" strike="noStrike">
              <a:solidFill>
                <a:srgbClr val="000000"/>
              </a:solidFill>
              <a:latin typeface="Arial Black"/>
            </a:endParaRPr>
          </a:p>
        </p:txBody>
      </p:sp>
      <p:sp>
        <p:nvSpPr>
          <p:cNvPr id="110" name=""/>
          <p:cNvSpPr/>
          <p:nvPr/>
        </p:nvSpPr>
        <p:spPr>
          <a:xfrm>
            <a:off x="3045960" y="586728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brey W. McLaugh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6:45:18Z</dcterms:created>
  <dc:creator>Milbrey McLaughlin</dc:creator>
  <dc:description/>
  <dc:language>en-US</dc:language>
  <cp:lastModifiedBy>Milbrey McLaughlin</cp:lastModifiedBy>
  <cp:lastPrinted>2002-06-22T23:45:53Z</cp:lastPrinted>
  <dcterms:modified xsi:type="dcterms:W3CDTF">2002-06-23T00:23:09Z</dcterms:modified>
  <cp:revision>19</cp:revision>
  <dc:subject/>
  <dc:title> Building Bridges Between Education &amp; Youth Development </dc:title>
</cp:coreProperties>
</file>